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707-95F6-4343-AB8C-FF5AC5B2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BEEF-6CB1-4762-ADA8-C1D35077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480-52DE-4B3E-8944-EE8229F8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BF8-118E-4008-98AC-C7AE82BF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A550-6A08-4C34-8AE4-75D276C9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DB9C-8752-4B44-A5ED-76B6E6FB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D3C0-45F4-4606-B08B-9BE60953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6F49-24A3-4980-B9EB-1F1C9BB0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BC0F-FD7D-4EDB-9CC2-35EDCC4B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3365-05E2-45FC-B634-33862142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C7C8-EA04-4771-84B0-9FD9D2F3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D91-4340-48FF-A15C-823A3F19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FFE4-2032-438A-9E20-1DA0041E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A2A7-A7AB-4D3B-915F-EFB56BCD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D896-7872-4962-A61E-6143ED69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556D-DE3C-4B56-AA96-16E1F057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BF98-FE83-477C-B31D-E459BF70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0B77A-4130-4D40-AB78-DCAE0C63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A138-116C-447B-8189-81CDDA9F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70C8-24E2-4B6C-84A9-6321DCA2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305B2-5A3F-4777-AD10-F2DCC484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98AE8-24FC-40E7-B5D0-209147CB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48A6-55AC-4E3C-9EC8-1A46C68E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C4FDE-A0CA-4EA0-B026-0016FE27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49D2F-33E5-4F6F-9F35-8D7AB58B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4EC5D-C73A-431B-ABE3-FF8F5545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7AE7C-54D8-4C83-8488-316866E2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4622C-55BB-4F48-9B78-97A7C0C6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B461C-BD39-445B-AF63-5DCCADC1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FDEC9-86F2-4305-9E09-239D24D2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426C2-E66A-4681-A988-09D3ABBF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B78CE-F465-4D4C-8DD9-D88E9B09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74CFD-F103-4E08-8DF6-A4E25C41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B64-AACD-47FC-B037-351A932F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7EC2D-9ED8-40B4-8E83-F5356440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C115A-2FD4-4D47-B085-4DDEE3F3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A783E-3E22-4D14-B7F1-3BB93D35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9A275-6FC8-4213-B6FC-DA734573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FD1CC-4CE9-4EF6-BC40-5E038337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9123B-4810-457D-9355-E05D7311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2898B-D273-4117-8B10-BEDFACCF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9E304-C727-4C0C-B72E-2EEE8A67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370C7-66EB-4D1F-A5D5-BDA72BBC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485C8-5008-41AD-9096-C95665C7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D46-9A18-4DC5-953C-4B26D13C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0E610-C822-47E4-8589-05DC0F89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61559-9C5F-42E3-8459-B172D97A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F47DD-95F2-4D42-99EA-8892BA88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9B734-E42B-4EB2-9192-E89C48B0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AF594-9B77-4AD1-B2C4-709CE5CA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03CEB-00CD-4932-89EF-76BA0C77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9AE93-6022-484A-BF21-5888114A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E1EF1-95DC-4810-BF35-5499A728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050A4-6F1E-4E49-9E66-17F52B1F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046EF-0D99-45F0-AF06-60E3F341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869-7E95-4E56-B95F-EB90EC71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705D4-A96A-4B6E-A1D1-FDA5521B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75662-F986-4D08-9F78-C646DF04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F9DD4-B394-459D-BC9B-7A73DE3E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C8423-C322-406A-A895-20D22946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58F50-3DBC-4BDD-9638-EDEBD4EB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155FC-6515-431A-83CB-D7C2BBEE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FB6B5-F5CA-4123-9FB6-3DBB7FBC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AD6FA-5283-4F34-A5B7-6810A2A5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346B6-EF01-4AC7-B1D8-D974A19E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AC224-5DD7-4D5A-A2E4-63E9F233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375-0565-4FE0-BD8D-B70905CC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A5FBC-F1E7-4608-B799-58CF3950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490E2-AF5D-40F2-8263-1F2340E6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F716F-50FB-4F52-A041-142F04EF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127-204D-4033-B906-E3D409D2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2BB-93A9-49F6-A905-8E0B37EE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hyperlink" Target="http://images.google.com/imgres?imgurl=http://arc.rcboe.org/www/arc_rcboe/site/hosting/IB/IB2007WorldSchool2Colourlarge.jpg&amp;imgrefurl=http://arc.rcboe.org/www/arc_rcboe/site/hosting/IB/index.htm&amp;usg=__pMwXyNhM6mI4srh1rcKogi4XBhY=&amp;h=481&amp;w=492&amp;sz=110&amp;hl=en&amp;start=1&amp;tbnid=zj-WJyn8raLdRM:&amp;tbnh=127&amp;tbnw=130&amp;prev=/images?q=IB&amp;gbv=2&amp;hl=en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images.google.com/imgres?imgurl=http://arc.rcboe.org/www/arc_rcboe/site/hosting/IB/IB2007WorldSchool2Colourlarge.jpg&amp;imgrefurl=http://arc.rcboe.org/www/arc_rcboe/site/hosting/IB/index.htm&amp;usg=__pMwXyNhM6mI4srh1rcKogi4XBhY=&amp;h=481&amp;w=492&amp;sz=110&amp;hl=en&amp;start=1&amp;tbnid=zj-WJyn8raLdRM:&amp;tbnh=127&amp;tbnw=130&amp;prev=/images?q=IB&amp;gbv=2&amp;hl=en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7A3F-F3FA-4476-9109-3DBBEA389CC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" name="Picture 2" descr="http://tbn2.google.com/images?q=tbn:zj-WJyn8raLdRM:http://arc.rcboe.org/www/arc_rcboe/site/hosting/IB/IB2007WorldSchool2Colourlarg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0120" y="228600"/>
            <a:ext cx="1238040" cy="120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C983-12E5-4845-832E-A525AF6E76E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Picture 2" descr="http://tbn2.google.com/images?q=tbn:zj-WJyn8raLdRM:http://arc.rcboe.org/www/arc_rcboe/site/hosting/IB/IB2007WorldSchool2Colourlarg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72400" y="228600"/>
            <a:ext cx="1238400" cy="1209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819A-CBB5-4257-A4FD-AB54D8A36EF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Picture 2" descr="http://tbn2.google.com/images?q=tbn:zj-WJyn8raLdRM:http://arc.rcboe.org/www/arc_rcboe/site/hosting/IB/IB2007WorldSchool2Colourlarge.jpg"/>
          <p:cNvPicPr/>
          <p:nvPr/>
        </p:nvPicPr>
        <p:blipFill>
          <a:blip r:embed="rId5"/>
          <a:stretch/>
        </p:blipFill>
        <p:spPr>
          <a:xfrm>
            <a:off x="7696080" y="152280"/>
            <a:ext cx="1238400" cy="1209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8642-B508-4355-92A1-7DADB57739C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2" name="Picture 2" descr="http://tbn2.google.com/images?q=tbn:zj-WJyn8raLdRM:http://arc.rcboe.org/www/arc_rcboe/site/hosting/IB/IB2007WorldSchool2Colourlarge.jpg"/>
          <p:cNvPicPr/>
          <p:nvPr/>
        </p:nvPicPr>
        <p:blipFill>
          <a:blip r:embed="rId5"/>
          <a:stretch/>
        </p:blipFill>
        <p:spPr>
          <a:xfrm>
            <a:off x="7620120" y="152280"/>
            <a:ext cx="1238040" cy="12099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246E-A730-442E-9A6D-33FE015051D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8140-E131-44B0-AA75-ABCBB8D1EFA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Title 1" descr=""/>
          <p:cNvPicPr/>
          <p:nvPr/>
        </p:nvPicPr>
        <p:blipFill>
          <a:blip r:embed="rId1"/>
          <a:stretch/>
        </p:blipFill>
        <p:spPr>
          <a:xfrm>
            <a:off x="-158760" y="378000"/>
            <a:ext cx="8309160" cy="1901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23800" y="224748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Design Cycle: A Problem Solving Proc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309060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: Creating the solu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onstruc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 logical plan, describing time &amp; re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emonstra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xcellen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echnical ski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pl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justif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ully any chang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made to the chosen design and pla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uring the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pres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olution as a whole either in electronic form or through photographs of the solution showing details from different ang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reating the solution - Deta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en changes have been made to the solution, students must describe and justify each chang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echnical skills: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level of technical skill can be determined using the following two factor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complexity of skill demonstr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level of guidance needed from the teacher to complete the task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:Evalua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etailed and relevant testing methods that will generate data and make it possible to measure the success of the sol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valua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success of the solution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gainst the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design specification*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how the solution could be improv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impact of the solution on the targeted audience/cl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aluating - Deta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218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oduct testing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ge in the design process where versions of products (prototypes) are tested against the design need (specification), applied to the context and presented to the end-user or target audien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sts include collection and analysis                               of data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ypes of testing inclu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user trial and observation: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(usability and intuitiveness),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field/ performance test: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(functionality and performance),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expert appraisal: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(beta testing, consumer testing)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6248520" y="2971800"/>
            <a:ext cx="24573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aluating details continued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uthentic tests are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evant to the proj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leted by appropriate teste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d to gain high-quality feedbac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0527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: </a:t>
            </a: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eloping Idea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s wil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evelo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esign specificati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at                             clearly states the success crite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evelo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 range of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easib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esign ideas, which can be interpreted by ot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pres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inal chosen design and justif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evelo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ccurate and detailed planning drawings/diagrams and outline the requirements for the creation of the chosen sol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Design Specs = success criteria</a:t>
            </a:r>
            <a:br>
              <a:rPr sz="2000"/>
            </a:b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To be successful, the solution must... (have, be, include, do, etc.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228600" y="152388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ccord SF"/>
              </a:rPr>
              <a:t>This is detailed description of the conditions, requirements and restrictions with which a design must com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ccord SF"/>
              </a:rPr>
              <a:t>This is a precise and accurate list of facts such as conditions, dimensions,  materials, process and methods that are important for the designer and for the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ccord SF"/>
              </a:rPr>
              <a:t>All appropriate solutions will need to comply with the design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veloping Ideas - Deta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0" y="1066680"/>
            <a:ext cx="8915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you will start discussing the various ideas to promote tourism. Example: Video, Magazine, Webpages, Blogs, App, Brochure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VIDE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- 4 minutes long. Frames with various tourist destinations within the c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70c0"/>
                </a:solidFill>
                <a:uFillTx/>
                <a:latin typeface="Arial"/>
              </a:rPr>
              <a:t>BROCH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Two Pages of Brochure attractive and professionally created so that target audience will make an attempt to visit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762120" y="914400"/>
            <a:ext cx="3276360" cy="2743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4419720" y="914400"/>
            <a:ext cx="3276360" cy="2743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762120" y="914400"/>
            <a:ext cx="3276360" cy="76212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onstantia"/>
              </a:rPr>
              <a:t>Video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838080" y="1828800"/>
            <a:ext cx="1447920" cy="1066680"/>
          </a:xfrm>
          <a:prstGeom prst="rect">
            <a:avLst/>
          </a:pr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nstantia"/>
              </a:rPr>
              <a:t>Information  on places to vi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7"/>
          <p:cNvSpPr/>
          <p:nvPr/>
        </p:nvSpPr>
        <p:spPr>
          <a:xfrm>
            <a:off x="2590920" y="1828800"/>
            <a:ext cx="1295280" cy="762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nstantia"/>
              </a:rPr>
              <a:t>Pic of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8"/>
          <p:cNvSpPr/>
          <p:nvPr/>
        </p:nvSpPr>
        <p:spPr>
          <a:xfrm>
            <a:off x="2590920" y="2666880"/>
            <a:ext cx="1295280" cy="990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nstantia"/>
              </a:rPr>
              <a:t>Pic of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 rot="16200000">
            <a:off x="3429000" y="1905120"/>
            <a:ext cx="2743200" cy="76176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Constantia"/>
              </a:rPr>
              <a:t>Video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5181480" y="2590920"/>
            <a:ext cx="2514600" cy="1066680"/>
          </a:xfrm>
          <a:prstGeom prst="rect">
            <a:avLst/>
          </a:prstGeom>
          <a:solidFill>
            <a:srgbClr val="94f7d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nstantia"/>
              </a:rPr>
              <a:t>Information  on places to vi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2"/>
          <p:cNvSpPr/>
          <p:nvPr/>
        </p:nvSpPr>
        <p:spPr>
          <a:xfrm>
            <a:off x="5257800" y="990720"/>
            <a:ext cx="838080" cy="761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Constantia"/>
              </a:rPr>
              <a:t>Pic of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6400800" y="990720"/>
            <a:ext cx="838080" cy="761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Constantia"/>
              </a:rPr>
              <a:t>Pic of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5334120" y="1828800"/>
            <a:ext cx="838080" cy="762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Constantia"/>
              </a:rPr>
              <a:t>Pic of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6400800" y="1828800"/>
            <a:ext cx="838080" cy="762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060"/>
                </a:solidFill>
                <a:latin typeface="Constantia"/>
              </a:rPr>
              <a:t>Pic of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V="1">
            <a:off x="609480" y="3504600"/>
            <a:ext cx="610560" cy="6102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21" name="TextBox 18"/>
          <p:cNvSpPr/>
          <p:nvPr/>
        </p:nvSpPr>
        <p:spPr>
          <a:xfrm>
            <a:off x="0" y="4419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ground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ight Brace 19"/>
          <p:cNvSpPr/>
          <p:nvPr/>
        </p:nvSpPr>
        <p:spPr>
          <a:xfrm rot="5400000">
            <a:off x="3999960" y="3466800"/>
            <a:ext cx="380880" cy="76212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762120"/>
              <a:gd name="textAreaBottom" fmla="*/ 7524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bd0d9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0"/>
          <p:cNvSpPr/>
          <p:nvPr/>
        </p:nvSpPr>
        <p:spPr>
          <a:xfrm>
            <a:off x="3352680" y="41148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itio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1"/>
          <p:cNvSpPr/>
          <p:nvPr/>
        </p:nvSpPr>
        <p:spPr>
          <a:xfrm>
            <a:off x="228600" y="2286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80880" y="1295280"/>
            <a:ext cx="2514600" cy="5181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80880" y="1295280"/>
            <a:ext cx="2514600" cy="762120"/>
          </a:xfrm>
          <a:prstGeom prst="rect">
            <a:avLst/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Visit U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5"/>
          <p:cNvSpPr/>
          <p:nvPr/>
        </p:nvSpPr>
        <p:spPr>
          <a:xfrm>
            <a:off x="1981080" y="2286000"/>
            <a:ext cx="838440" cy="1219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219320"/>
              <a:gd name="textAreaBottom" fmla="*/ 1178640 h 1219320"/>
            </a:gdLst>
            <a:ahLst/>
            <a:rect l="textAreaLeft" t="textAreaTop" r="textAreaRight" b="textAreaBottom"/>
            <a:pathLst>
              <a:path w="21600" h="31408">
                <a:moveTo>
                  <a:pt x="3600" y="0"/>
                </a:moveTo>
                <a:arcTo wR="3600" hR="3600" stAng="16200000" swAng="-5400000"/>
                <a:lnTo>
                  <a:pt x="0" y="27808"/>
                </a:lnTo>
                <a:arcTo wR="3600" hR="3600" stAng="10800000" swAng="-5400000"/>
                <a:lnTo>
                  <a:pt x="18000" y="314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Constantia"/>
              </a:rPr>
              <a:t>Pic of  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6"/>
          <p:cNvSpPr/>
          <p:nvPr/>
        </p:nvSpPr>
        <p:spPr>
          <a:xfrm>
            <a:off x="380880" y="518148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onstantia"/>
              </a:rPr>
              <a:t>Pic of 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ounded Rectangle 7"/>
          <p:cNvSpPr/>
          <p:nvPr/>
        </p:nvSpPr>
        <p:spPr>
          <a:xfrm>
            <a:off x="1143000" y="518148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onstantia"/>
              </a:rPr>
              <a:t>Pic of 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ounded Rectangle 8"/>
          <p:cNvSpPr/>
          <p:nvPr/>
        </p:nvSpPr>
        <p:spPr>
          <a:xfrm>
            <a:off x="1905120" y="5181480"/>
            <a:ext cx="685800" cy="121932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1219320"/>
              <a:gd name="textAreaBottom" fmla="*/ 1185840 h 1219320"/>
            </a:gdLst>
            <a:ahLst/>
            <a:rect l="textAreaLeft" t="textAreaTop" r="textAreaRight" b="textAreaBottom"/>
            <a:pathLst>
              <a:path w="21600" h="38395">
                <a:moveTo>
                  <a:pt x="3600" y="0"/>
                </a:moveTo>
                <a:arcTo wR="3600" hR="3600" stAng="16200000" swAng="-5400000"/>
                <a:lnTo>
                  <a:pt x="0" y="34795"/>
                </a:lnTo>
                <a:arcTo wR="3600" hR="3600" stAng="10800000" swAng="-5400000"/>
                <a:lnTo>
                  <a:pt x="18000" y="38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onstantia"/>
              </a:rPr>
              <a:t>Pic of 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457200" y="2362320"/>
            <a:ext cx="1219320" cy="533160"/>
          </a:xfrm>
          <a:prstGeom prst="rect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Hea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10"/>
          <p:cNvSpPr/>
          <p:nvPr/>
        </p:nvSpPr>
        <p:spPr>
          <a:xfrm>
            <a:off x="380880" y="3200400"/>
            <a:ext cx="1600200" cy="1600200"/>
          </a:xfrm>
          <a:prstGeom prst="roundRect">
            <a:avLst>
              <a:gd name="adj" fmla="val 16667"/>
            </a:avLst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nstantia"/>
              </a:rPr>
              <a:t>Information on places to vi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3657600" y="1295280"/>
            <a:ext cx="2514600" cy="5181840"/>
          </a:xfrm>
          <a:prstGeom prst="rect">
            <a:avLst/>
          </a:prstGeom>
          <a:solidFill>
            <a:srgbClr val="089ca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3657600" y="1295280"/>
            <a:ext cx="2514600" cy="762120"/>
          </a:xfrm>
          <a:prstGeom prst="rect">
            <a:avLst/>
          </a:prstGeom>
          <a:solidFill>
            <a:srgbClr val="07242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Visit U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15"/>
          <p:cNvSpPr/>
          <p:nvPr/>
        </p:nvSpPr>
        <p:spPr>
          <a:xfrm>
            <a:off x="3657600" y="5257800"/>
            <a:ext cx="990720" cy="12193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219320"/>
              <a:gd name="textAreaBottom" fmla="*/ 1171080 h 1219320"/>
            </a:gdLst>
            <a:ahLst/>
            <a:rect l="textAreaLeft" t="textAreaTop" r="textAreaRight" b="textAreaBottom"/>
            <a:pathLst>
              <a:path w="21600" h="26582">
                <a:moveTo>
                  <a:pt x="3600" y="0"/>
                </a:moveTo>
                <a:arcTo wR="3600" hR="3600" stAng="16200000" swAng="-5400000"/>
                <a:lnTo>
                  <a:pt x="0" y="22982"/>
                </a:lnTo>
                <a:arcTo wR="3600" hR="3600" stAng="10800000" swAng="-5400000"/>
                <a:lnTo>
                  <a:pt x="18000" y="265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onstantia"/>
              </a:rPr>
              <a:t>Pic of 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16"/>
          <p:cNvSpPr/>
          <p:nvPr/>
        </p:nvSpPr>
        <p:spPr>
          <a:xfrm>
            <a:off x="5029200" y="5257800"/>
            <a:ext cx="1143000" cy="121932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19320"/>
              <a:gd name="textAreaBottom" fmla="*/ 1163520 h 1219320"/>
            </a:gdLst>
            <a:ahLst/>
            <a:rect l="textAreaLeft" t="textAreaTop" r="textAreaRight" b="textAreaBottom"/>
            <a:pathLst>
              <a:path w="21600" h="23042">
                <a:moveTo>
                  <a:pt x="3600" y="0"/>
                </a:moveTo>
                <a:arcTo wR="3600" hR="3600" stAng="16200000" swAng="-5400000"/>
                <a:lnTo>
                  <a:pt x="0" y="19442"/>
                </a:lnTo>
                <a:arcTo wR="3600" hR="3600" stAng="10800000" swAng="-5400000"/>
                <a:lnTo>
                  <a:pt x="18000" y="230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onstantia"/>
              </a:rPr>
              <a:t>Pic of  pl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4952880" y="2133720"/>
            <a:ext cx="1219320" cy="533160"/>
          </a:xfrm>
          <a:prstGeom prst="rect">
            <a:avLst/>
          </a:prstGeom>
          <a:solidFill>
            <a:srgbClr val="02303e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Hea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le 18"/>
          <p:cNvSpPr/>
          <p:nvPr/>
        </p:nvSpPr>
        <p:spPr>
          <a:xfrm>
            <a:off x="3657600" y="3200400"/>
            <a:ext cx="2514600" cy="1600200"/>
          </a:xfrm>
          <a:prstGeom prst="roundRect">
            <a:avLst>
              <a:gd name="adj" fmla="val 16667"/>
            </a:avLst>
          </a:prstGeom>
          <a:solidFill>
            <a:srgbClr val="7e963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onstantia"/>
              </a:rPr>
              <a:t>Information on places to vi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ounded Rectangle 19"/>
          <p:cNvSpPr/>
          <p:nvPr/>
        </p:nvSpPr>
        <p:spPr>
          <a:xfrm>
            <a:off x="3657600" y="2057400"/>
            <a:ext cx="1066680" cy="1066680"/>
          </a:xfrm>
          <a:prstGeom prst="roundRect">
            <a:avLst>
              <a:gd name="adj" fmla="val 16667"/>
            </a:avLst>
          </a:prstGeom>
          <a:solidFill>
            <a:srgbClr val="0b5395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Constantia"/>
              </a:rPr>
              <a:t>Pic of  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0"/>
          <p:cNvSpPr/>
          <p:nvPr/>
        </p:nvSpPr>
        <p:spPr>
          <a:xfrm>
            <a:off x="685800" y="304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ochure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1"/>
          <p:cNvSpPr/>
          <p:nvPr/>
        </p:nvSpPr>
        <p:spPr>
          <a:xfrm>
            <a:off x="6477120" y="1295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notate them clear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152280" y="152280"/>
            <a:ext cx="899172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clude the follow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mensions (size – width and he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03495c"/>
                </a:solidFill>
                <a:latin typeface="Arial"/>
              </a:rPr>
              <a:t>Time (where appropriate e.g. the movie will be no      longer than 4 m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546422"/>
                </a:solidFill>
                <a:latin typeface="Arial"/>
              </a:rPr>
              <a:t>Colors – various colors that you may think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Fonts – Fonts that go well with th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terials – Software/Hardware/Hardboard/Flash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152280" y="152280"/>
            <a:ext cx="838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is is an example of a good Design Specification for a Clock Projec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use the Quartz analogue clock movement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vement is 55mm x 55mm x 15mm, so it must be    larger that 55mm x55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smaller that 300mm x 300mm due to the size of the h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thicker that 5mm due to the length of the movement sh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have a theme that reflects the results from my 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original in its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made from MDF, timber or acrylic as are the most sui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eveloping Ideas - Detai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990720"/>
            <a:ext cx="88390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2060"/>
                </a:solidFill>
                <a:uFillTx/>
                <a:latin typeface="Constantia"/>
              </a:rPr>
              <a:t>Important Point to Note: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n MYP design, </a:t>
            </a:r>
            <a:r>
              <a:rPr b="0" lang="en-US" sz="3700" spc="-1" strike="noStrike" u="sng">
                <a:solidFill>
                  <a:srgbClr val="000000"/>
                </a:solidFill>
                <a:uFillTx/>
                <a:latin typeface="Constantia"/>
              </a:rPr>
              <a:t>a </a:t>
            </a:r>
            <a:r>
              <a:rPr b="1" lang="en-US" sz="3700" spc="-1" strike="noStrike" u="sng">
                <a:solidFill>
                  <a:srgbClr val="000000"/>
                </a:solidFill>
                <a:uFillTx/>
                <a:latin typeface="Constantia"/>
              </a:rPr>
              <a:t>feasible</a:t>
            </a:r>
            <a:r>
              <a:rPr b="0" lang="en-US" sz="3700" spc="-1" strike="noStrike" u="sng">
                <a:solidFill>
                  <a:srgbClr val="000000"/>
                </a:solidFill>
                <a:uFillTx/>
                <a:latin typeface="Constantia"/>
              </a:rPr>
              <a:t> idea 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s one that the you can create within the allocated time with the tools and facilities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7030a0"/>
                </a:solidFill>
                <a:latin typeface="Constantia"/>
              </a:rPr>
              <a:t>Having looked at various options, choose an Idea and start developing designs keeping in mind the design specification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7:56:43Z</dcterms:created>
  <dc:creator>Todd Matia</dc:creator>
  <dc:description/>
  <dc:language>en-US</dc:language>
  <cp:lastModifiedBy>mnicholas</cp:lastModifiedBy>
  <dcterms:modified xsi:type="dcterms:W3CDTF">2016-01-13T09:43:24Z</dcterms:modified>
  <cp:revision>53</cp:revision>
  <dc:subject/>
  <dc:title>IB Design Technology</dc:title>
</cp:coreProperties>
</file>